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8.jpeg" ContentType="image/jpeg"/>
  <Override PartName="/ppt/media/image12.wmf" ContentType="image/x-wmf"/>
  <Override PartName="/ppt/media/image10.png" ContentType="image/png"/>
  <Override PartName="/ppt/media/image7.jpeg" ContentType="image/jpeg"/>
  <Override PartName="/ppt/media/image11.wmf" ContentType="image/x-wmf"/>
  <Override PartName="/ppt/media/image20.jpeg" ContentType="image/jpeg"/>
  <Override PartName="/ppt/media/image17.wmf" ContentType="image/x-wmf"/>
  <Override PartName="/ppt/media/image18.jpeg" ContentType="image/jpeg"/>
  <Override PartName="/ppt/media/image16.wmf" ContentType="image/x-wmf"/>
  <Override PartName="/ppt/media/image15.wmf" ContentType="image/x-wmf"/>
  <Override PartName="/ppt/media/image14.wmf" ContentType="image/x-wmf"/>
  <Override PartName="/ppt/media/image5.jpeg" ContentType="image/jpeg"/>
  <Override PartName="/ppt/media/image1.wmf" ContentType="image/x-wmf"/>
  <Override PartName="/ppt/media/image9.jpeg" ContentType="image/jpeg"/>
  <Override PartName="/ppt/media/image4.jpeg" ContentType="image/jpeg"/>
  <Override PartName="/ppt/media/image2.png" ContentType="image/png"/>
  <Override PartName="/ppt/media/image3.jpeg" ContentType="image/jpeg"/>
  <Override PartName="/ppt/media/image6.wmf" ContentType="image/x-wmf"/>
  <Override PartName="/ppt/media/image1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624638" cy="98107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624000" cy="981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870280" cy="490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753000" y="-360"/>
            <a:ext cx="2869920" cy="490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  <a:defRPr b="0" lang="en-A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860400" y="736200"/>
            <a:ext cx="4905360" cy="3678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882720" y="4660560"/>
            <a:ext cx="4857840" cy="441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9319680"/>
            <a:ext cx="2870280" cy="490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  <a:defRPr b="0" lang="en-A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753000" y="9319680"/>
            <a:ext cx="2869920" cy="490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  <a:defRPr b="0" lang="en-A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fld id="{E10EB349-8140-4979-B42B-8385E5CA3899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860400" y="736560"/>
            <a:ext cx="4905360" cy="367812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882720" y="4660560"/>
            <a:ext cx="4857840" cy="441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By the end of the Challenge </a:t>
            </a:r>
            <a:r>
              <a:rPr b="0" i="1" lang="en-AU" sz="1200" spc="-1" strike="noStrike">
                <a:solidFill>
                  <a:srgbClr val="cc3300"/>
                </a:solidFill>
                <a:latin typeface="Arial"/>
              </a:rPr>
              <a:t>more</a:t>
            </a: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 participants were aware of the health benefits of regular physical ac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Series 1 </a:t>
            </a: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Series 2</a:t>
            </a: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6.4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Combined</a:t>
            </a: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9.7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860400" y="736560"/>
            <a:ext cx="4905360" cy="367812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882720" y="4660560"/>
            <a:ext cx="4857840" cy="441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more confident in achieving moderate levels of physical ac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5.6% decrease </a:t>
            </a: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Not confident at 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2.8% increase</a:t>
            </a: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Moderately confid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860400" y="736560"/>
            <a:ext cx="4905360" cy="367812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882720" y="4660560"/>
            <a:ext cx="4857840" cy="441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meeting the physical activity guide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7.1% increase</a:t>
            </a: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moderate P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860400" y="736560"/>
            <a:ext cx="4905360" cy="367812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882720" y="4660560"/>
            <a:ext cx="4857840" cy="441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meeting the physical activity guide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14.2% increase</a:t>
            </a: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vigorous P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860400" y="736560"/>
            <a:ext cx="4905360" cy="367812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882720" y="4660560"/>
            <a:ext cx="4857840" cy="441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ople were spending more time exercising per week (moderate physical ac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 of 80 minutes per week per person (averag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860400" y="736560"/>
            <a:ext cx="4905360" cy="367812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882720" y="4660560"/>
            <a:ext cx="4857840" cy="441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By the end of the Challenge </a:t>
            </a:r>
            <a:r>
              <a:rPr b="0" i="1" lang="en-AU" sz="1200" spc="-1" strike="noStrike">
                <a:solidFill>
                  <a:srgbClr val="cc3300"/>
                </a:solidFill>
                <a:latin typeface="Arial"/>
              </a:rPr>
              <a:t>more</a:t>
            </a: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 participants were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walking or cycling for short tr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11.1% increase 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ll of the ti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2.8% increase 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Most of the ti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11.8% decrease 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Sometim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4.4% decrease 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Ne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860400" y="736560"/>
            <a:ext cx="4905360" cy="367812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882720" y="4660560"/>
            <a:ext cx="4857840" cy="441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Information Sessions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Educate participan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bout benefits of physical activ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How to increase the number of ste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Explain what is required during the 10,000 Steps Challe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Opportunity to link into Recreation Initia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Participants given resource kit – </a:t>
            </a:r>
            <a:r>
              <a:rPr b="0" lang="en-AU" sz="900" spc="-1" strike="noStrike">
                <a:solidFill>
                  <a:srgbClr val="000000"/>
                </a:solidFill>
                <a:latin typeface="Arial"/>
              </a:rPr>
              <a:t>only if medical questionnaire, pre challenge questionnaire were return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CHALLENGE COMMEN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Participants reque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Feedback session - RESUL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Resource K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Information She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cc3300"/>
                </a:solidFill>
                <a:latin typeface="Arial"/>
              </a:rPr>
              <a:t>Collection Card – allows you to collect Pedometer from Ruth Faulkner Libr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Pedometer                             Instru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Log Book –                            records number of               steps taken each 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Post Challenge                Questionnai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City of Belmont Trails Broch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City of Belmont Access and Facilities Gu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Find Thirty” brochure – gives ideas on how to incorporate physical activity into your 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Brochures on other Recreation and Health activ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860400" y="736560"/>
            <a:ext cx="4905360" cy="367812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882720" y="4660560"/>
            <a:ext cx="4857840" cy="441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The results from the log books, pre and post – challenge questionnaire’s were collated and the data was then forwarded to East Metro Population Health Unit for eval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94D52-1DCE-46F8-9EB6-8C8A022C0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040" y="2057400"/>
            <a:ext cx="80010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914040" y="4166640"/>
            <a:ext cx="80010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7F215-E634-4014-BE90-3C1637E3D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14040" y="2057400"/>
            <a:ext cx="3904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013720" y="2057400"/>
            <a:ext cx="3904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914040" y="4166640"/>
            <a:ext cx="3904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3720" y="4166640"/>
            <a:ext cx="3904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59A64-F400-496A-8197-E529997CF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14040" y="2057400"/>
            <a:ext cx="2576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619440" y="2057400"/>
            <a:ext cx="2576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324840" y="2057400"/>
            <a:ext cx="2576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914040" y="4166640"/>
            <a:ext cx="2576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619440" y="4166640"/>
            <a:ext cx="2576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324840" y="4166640"/>
            <a:ext cx="2576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CBBDA-124E-47A7-90F5-17A424C9E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54521-368D-422E-B8BF-42FA65FA2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914040" y="2057400"/>
            <a:ext cx="80010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2F1F3-7FAB-4C63-8A45-D05B8F78D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040" y="2057400"/>
            <a:ext cx="80010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5D3A9-3E01-4895-A8AD-1262C271E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040" y="2057400"/>
            <a:ext cx="39042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13720" y="2057400"/>
            <a:ext cx="39042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43860-178F-4E96-A28F-A2AC25953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9486A-D1BB-4FD2-9CFB-DD838CAAA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914040" y="45684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19EB2-E911-4C5A-8C72-53554B64F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040" y="2057400"/>
            <a:ext cx="3904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13720" y="2057400"/>
            <a:ext cx="39042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14040" y="4166640"/>
            <a:ext cx="3904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B3BB3-4C36-4A61-BEBE-4249B9956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914040" y="2057400"/>
            <a:ext cx="80010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88E57-39D2-4EBC-ABCA-152E8122F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040" y="2057400"/>
            <a:ext cx="39042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3720" y="2057400"/>
            <a:ext cx="3904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13720" y="4166640"/>
            <a:ext cx="3904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B6D2F-BB65-4F0D-BCA2-14BDD4B3A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040" y="2057400"/>
            <a:ext cx="3904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13720" y="2057400"/>
            <a:ext cx="3904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914040" y="4166640"/>
            <a:ext cx="80010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1BFAA-7F70-4615-986C-C75B42BE7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040" y="2057400"/>
            <a:ext cx="80010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914040" y="4166640"/>
            <a:ext cx="80010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28399-7F15-45C1-8A19-94C38B494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040" y="2057400"/>
            <a:ext cx="3904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13720" y="2057400"/>
            <a:ext cx="3904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14040" y="4166640"/>
            <a:ext cx="3904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13720" y="4166640"/>
            <a:ext cx="3904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BEA65-6D4F-4EE3-90D7-CD914A82A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040" y="2057400"/>
            <a:ext cx="2576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19440" y="2057400"/>
            <a:ext cx="2576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4840" y="2057400"/>
            <a:ext cx="2576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914040" y="4166640"/>
            <a:ext cx="2576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19440" y="4166640"/>
            <a:ext cx="2576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4840" y="4166640"/>
            <a:ext cx="2576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867BC-A1CA-4DC0-9C49-3444D4685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14040" y="2057400"/>
            <a:ext cx="80010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918CB-E624-4682-BB0B-1729AA5C1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040" y="2057400"/>
            <a:ext cx="39042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13720" y="2057400"/>
            <a:ext cx="39042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FA1A8-AAAF-4F66-A036-1C8124453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CD44C-6C65-484E-B2DB-FB3CA734B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914040" y="45684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7D93B-6F15-4A65-A6B0-961547E02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14040" y="2057400"/>
            <a:ext cx="3904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13720" y="2057400"/>
            <a:ext cx="39042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14040" y="4166640"/>
            <a:ext cx="3904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F2E63-4B68-4254-A3C9-B8433B790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040" y="2057400"/>
            <a:ext cx="39042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13720" y="2057400"/>
            <a:ext cx="3904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13720" y="4166640"/>
            <a:ext cx="3904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FC94B-0CAB-46A1-BA1E-EBBA92E6F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040" y="2057400"/>
            <a:ext cx="3904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13720" y="2057400"/>
            <a:ext cx="3904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14040" y="4166640"/>
            <a:ext cx="80010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2A48B-8E52-403C-AA5A-2BE816EA0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14040" y="2057400"/>
            <a:ext cx="80010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8388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A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85E66-AF81-4D30-9109-5AC200B5DD4C}" type="slidenum">
              <a:rPr b="1" lang="en-A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228600" y="1676520"/>
            <a:ext cx="7391520" cy="318960"/>
            <a:chOff x="228600" y="1676520"/>
            <a:chExt cx="7391520" cy="318960"/>
          </a:xfrm>
        </p:grpSpPr>
        <p:sp>
          <p:nvSpPr>
            <p:cNvPr id="7" name=""/>
            <p:cNvSpPr/>
            <p:nvPr/>
          </p:nvSpPr>
          <p:spPr>
            <a:xfrm>
              <a:off x="609480" y="1676520"/>
              <a:ext cx="7010640" cy="31716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H="1">
              <a:off x="228600" y="1676520"/>
              <a:ext cx="39384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pic>
        <p:nvPicPr>
          <p:cNvPr id="9" name="" descr=""/>
          <p:cNvPicPr/>
          <p:nvPr/>
        </p:nvPicPr>
        <p:blipFill>
          <a:blip r:embed="rId2"/>
          <a:srcRect l="5491" t="10785" r="9123" b="17569"/>
          <a:stretch/>
        </p:blipFill>
        <p:spPr>
          <a:xfrm>
            <a:off x="7308720" y="0"/>
            <a:ext cx="1595520" cy="1525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Num" idx="6"/>
          </p:nvPr>
        </p:nvSpPr>
        <p:spPr>
          <a:xfrm>
            <a:off x="9360" y="6358320"/>
            <a:ext cx="58752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A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A5C6C-012B-4F55-8BF2-ABC4ED4E7306}" type="slidenum">
              <a:rPr b="1" lang="en-A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rcRect l="5491" t="10785" r="9123" b="17569"/>
          <a:stretch/>
        </p:blipFill>
        <p:spPr>
          <a:xfrm>
            <a:off x="7315200" y="1392120"/>
            <a:ext cx="1523880" cy="14572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rcRect l="5491" t="10785" r="9123" b="17569"/>
          <a:stretch/>
        </p:blipFill>
        <p:spPr>
          <a:xfrm>
            <a:off x="6553080" y="0"/>
            <a:ext cx="1524240" cy="145728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mailto:Andrew.Ward@belmont.wa.gov.au" TargetMode="External"/><Relationship Id="rId2" Type="http://schemas.openxmlformats.org/officeDocument/2006/relationships/hyperlink" Target="mailto:Jodi.Cronan@belmont.wa.gov.au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cba.uri.edu/scholl/" TargetMode="External"/><Relationship Id="rId2" Type="http://schemas.openxmlformats.org/officeDocument/2006/relationships/hyperlink" Target="http://www.cba.uri.edu/scholl/" TargetMode="External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4360" y="1916280"/>
            <a:ext cx="691488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3366"/>
                </a:solidFill>
                <a:latin typeface="Britannic Bold"/>
                <a:ea typeface="Times New Roman"/>
              </a:rPr>
              <a:t>City of Belmont</a:t>
            </a:r>
            <a:br>
              <a:rPr sz="5400"/>
            </a:br>
            <a:r>
              <a:rPr b="0" lang="en-US" sz="5400" spc="-1" strike="noStrike">
                <a:solidFill>
                  <a:srgbClr val="003366"/>
                </a:solidFill>
                <a:latin typeface="Curlz MT"/>
                <a:ea typeface="Times New Roman"/>
              </a:rPr>
              <a:t>10,000 Steps Challenge</a:t>
            </a:r>
            <a:endParaRPr b="1" lang="en-US" sz="5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029200" y="4572000"/>
            <a:ext cx="1600200" cy="13622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762120" y="4724280"/>
            <a:ext cx="1676160" cy="9414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3276720" y="189000"/>
            <a:ext cx="1873080" cy="133488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609480" y="5943600"/>
            <a:ext cx="8534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imes New Roman"/>
              </a:rPr>
              <a:t>“</a:t>
            </a:r>
            <a:r>
              <a:rPr b="1" lang="en-US" sz="1400" spc="-1" strike="noStrike">
                <a:solidFill>
                  <a:srgbClr val="003366"/>
                </a:solidFill>
                <a:latin typeface="Times New Roman"/>
              </a:rPr>
              <a:t>This project is an initiative of the Physical Activity Taskforce, made possible by the WA Local Government Association through a Lotterywest grant.”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2590920" y="4572000"/>
            <a:ext cx="2438280" cy="12384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5"/>
          <a:stretch/>
        </p:blipFill>
        <p:spPr>
          <a:xfrm>
            <a:off x="6732720" y="4941720"/>
            <a:ext cx="2016000" cy="703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6666"/>
                </a:solidFill>
                <a:latin typeface="Arial"/>
              </a:rPr>
              <a:t>1. Encourage community participation 2. Ensure the project is enjoyable and challenging for participant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040" y="2637000"/>
            <a:ext cx="8001000" cy="34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3366"/>
                </a:solidFill>
                <a:latin typeface="Arial"/>
              </a:rPr>
              <a:t>180 participan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3366"/>
                </a:solidFill>
                <a:latin typeface="Arial"/>
              </a:rPr>
              <a:t>Approx 50 staff including Councillors and Senior Managemen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3366"/>
                </a:solidFill>
                <a:latin typeface="Arial"/>
              </a:rPr>
              <a:t>Approx 130 resident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3366"/>
                </a:solidFill>
                <a:latin typeface="Arial"/>
              </a:rPr>
              <a:t>Information sess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3366"/>
                </a:solidFill>
                <a:latin typeface="Arial"/>
              </a:rPr>
              <a:t>Positive participant feedback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11280" y="3716280"/>
            <a:ext cx="8001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6666"/>
                </a:solidFill>
                <a:latin typeface="Arial"/>
              </a:rPr>
              <a:t>3. Educate participants on the benefits of physical activit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14040" y="2057400"/>
            <a:ext cx="39243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1042920" y="3108240"/>
          <a:ext cx="7080480" cy="3749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3108240"/>
                    <a:ext cx="7080480" cy="374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" name=""/>
          <p:cNvSpPr/>
          <p:nvPr/>
        </p:nvSpPr>
        <p:spPr>
          <a:xfrm>
            <a:off x="324000" y="1989000"/>
            <a:ext cx="849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3366"/>
                </a:solidFill>
                <a:latin typeface="Arial"/>
              </a:rPr>
              <a:t>% of participants that were aware regular physical activity has positive health benefits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492360" y="3933720"/>
            <a:ext cx="503280" cy="1366920"/>
          </a:xfrm>
          <a:prstGeom prst="upArrow">
            <a:avLst>
              <a:gd name="adj1" fmla="val 50000"/>
              <a:gd name="adj2" fmla="val 67901"/>
            </a:avLst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6666"/>
                </a:solidFill>
                <a:latin typeface="Arial"/>
              </a:rPr>
              <a:t>3. Educate participants on the benefits of physical activit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258920" y="2852640"/>
          <a:ext cx="6858000" cy="3632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2852640"/>
                    <a:ext cx="6858000" cy="363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8" name=""/>
          <p:cNvSpPr/>
          <p:nvPr/>
        </p:nvSpPr>
        <p:spPr>
          <a:xfrm>
            <a:off x="755640" y="2133720"/>
            <a:ext cx="813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3366"/>
                </a:solidFill>
                <a:latin typeface="Arial"/>
              </a:rPr>
              <a:t>% of participants who set goals for physical activit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564000" y="3573360"/>
            <a:ext cx="485640" cy="1119240"/>
          </a:xfrm>
          <a:prstGeom prst="upArrow">
            <a:avLst>
              <a:gd name="adj1" fmla="val 50000"/>
              <a:gd name="adj2" fmla="val 57617"/>
            </a:avLst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6666"/>
                </a:solidFill>
                <a:latin typeface="Arial"/>
              </a:rPr>
              <a:t>4. Ensure participants were aware of the physical activity levels needed to lead a healthy lifestyle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2060640"/>
            <a:ext cx="84978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30360" indent="-6303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nformation session at the start of each 10,000 Steps Challeng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630360" indent="-6303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ncourage participants to increase steps taken per day throughout the challeng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630360" indent="-6303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ncourage participants to aim to walk 10,000 steps or more per da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630360" indent="-6303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30 mins per Day, Log book indicator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630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68360" y="4941720"/>
            <a:ext cx="792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e average number of steps taken per day was -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ries 1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10560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ries 2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9647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6666"/>
                </a:solidFill>
                <a:latin typeface="Arial"/>
              </a:rPr>
              <a:t>4. Ensure participants were aware of the physical activity levels needed to lead a healthy lifestyle (cont…)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39640" y="2205000"/>
            <a:ext cx="8425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84360" y="2205000"/>
            <a:ext cx="799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6666"/>
                </a:solidFill>
                <a:latin typeface="Arial"/>
              </a:rPr>
              <a:t>% of People who met Physical Activity Guidelines (150 mins/week moderate PA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2124000" y="2998800"/>
          <a:ext cx="4853160" cy="385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4000" y="2998800"/>
                    <a:ext cx="4853160" cy="385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8" name=""/>
          <p:cNvSpPr/>
          <p:nvPr/>
        </p:nvSpPr>
        <p:spPr>
          <a:xfrm>
            <a:off x="3635280" y="3500280"/>
            <a:ext cx="505080" cy="1368720"/>
          </a:xfrm>
          <a:prstGeom prst="upArrow">
            <a:avLst>
              <a:gd name="adj1" fmla="val 50000"/>
              <a:gd name="adj2" fmla="val 67748"/>
            </a:avLst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6666"/>
                </a:solidFill>
                <a:latin typeface="Arial"/>
              </a:rPr>
              <a:t>4. Ensure participants were aware of the physical activity levels needed to lead a healthy lifestyle (cont…)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39640" y="2205000"/>
            <a:ext cx="8425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84360" y="2205000"/>
            <a:ext cx="799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6666"/>
                </a:solidFill>
                <a:latin typeface="Arial"/>
              </a:rPr>
              <a:t>% of People who met Physical Activity Guidelines (150 mins/week vigorous PA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635280" y="3500280"/>
            <a:ext cx="505080" cy="1368720"/>
          </a:xfrm>
          <a:prstGeom prst="upArrow">
            <a:avLst>
              <a:gd name="adj1" fmla="val 50000"/>
              <a:gd name="adj2" fmla="val 67748"/>
            </a:avLst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1187280" y="3068640"/>
          <a:ext cx="6762960" cy="3581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3068640"/>
                    <a:ext cx="6762960" cy="358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" name=""/>
          <p:cNvSpPr/>
          <p:nvPr/>
        </p:nvSpPr>
        <p:spPr>
          <a:xfrm>
            <a:off x="3492360" y="3645000"/>
            <a:ext cx="432000" cy="863640"/>
          </a:xfrm>
          <a:prstGeom prst="upArrow">
            <a:avLst>
              <a:gd name="adj1" fmla="val 50000"/>
              <a:gd name="adj2" fmla="val 49979"/>
            </a:avLst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6666"/>
                </a:solidFill>
                <a:latin typeface="Arial"/>
              </a:rPr>
              <a:t>4. Ensure participants were aware of the physical activity levels needed to lead a healthy lifestyle (cont…)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1403280" y="2098800"/>
          <a:ext cx="6048360" cy="4716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2098800"/>
                    <a:ext cx="6048360" cy="471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" name=""/>
          <p:cNvSpPr/>
          <p:nvPr/>
        </p:nvSpPr>
        <p:spPr>
          <a:xfrm>
            <a:off x="7596360" y="3645000"/>
            <a:ext cx="288720" cy="718920"/>
          </a:xfrm>
          <a:prstGeom prst="upArrow">
            <a:avLst>
              <a:gd name="adj1" fmla="val 50000"/>
              <a:gd name="adj2" fmla="val 62251"/>
            </a:avLst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451640" y="4365720"/>
            <a:ext cx="93672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451640" y="3645000"/>
            <a:ext cx="93672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451640" y="4797360"/>
            <a:ext cx="144000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3366"/>
                </a:solidFill>
                <a:latin typeface="Arial"/>
              </a:rPr>
              <a:t>By end of Challenge approx 16% more people were walking 10,000 or more steps per day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6666"/>
                </a:solidFill>
                <a:latin typeface="Arial"/>
              </a:rPr>
              <a:t>5. Promote positive lifestyle changes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1547640" y="2982960"/>
          <a:ext cx="5882040" cy="3875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7640" y="2982960"/>
                    <a:ext cx="5882040" cy="387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" name=""/>
          <p:cNvSpPr/>
          <p:nvPr/>
        </p:nvSpPr>
        <p:spPr>
          <a:xfrm>
            <a:off x="539640" y="2205000"/>
            <a:ext cx="8425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84360" y="2205000"/>
            <a:ext cx="799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6666"/>
                </a:solidFill>
                <a:latin typeface="Arial"/>
              </a:rPr>
              <a:t>Total Minutes spent exercising in the previous week (moderate PA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780000" y="3716280"/>
            <a:ext cx="485640" cy="760320"/>
          </a:xfrm>
          <a:prstGeom prst="upArrow">
            <a:avLst>
              <a:gd name="adj1" fmla="val 50000"/>
              <a:gd name="adj2" fmla="val 39140"/>
            </a:avLst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6666"/>
                </a:solidFill>
                <a:latin typeface="Arial"/>
              </a:rPr>
              <a:t>5. Promote positive lifestyle changes (cont…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1979640" y="2778120"/>
          <a:ext cx="5391000" cy="4079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778120"/>
                    <a:ext cx="5391000" cy="407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2" name=""/>
          <p:cNvSpPr/>
          <p:nvPr/>
        </p:nvSpPr>
        <p:spPr>
          <a:xfrm>
            <a:off x="611280" y="2133720"/>
            <a:ext cx="8353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68360" y="2133720"/>
            <a:ext cx="828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% of Participants who walk or cycle for short trips (less than 1km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148360" y="4581360"/>
            <a:ext cx="0" cy="165600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4572000" y="5013000"/>
            <a:ext cx="0" cy="107964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4859280" y="5157720"/>
            <a:ext cx="0" cy="100800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435640" y="5877000"/>
            <a:ext cx="0" cy="35856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roblems experience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2057040"/>
            <a:ext cx="7696080" cy="37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ost and broken pedometer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ibrary closure resulted in some delays for the return of pedometer’s, log books and questionnaire’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complete Post-questionnair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articipants not finishing 12 week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halleng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7236000" y="4149720"/>
            <a:ext cx="1531800" cy="2335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617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6666"/>
                </a:solidFill>
                <a:latin typeface="Arial"/>
              </a:rPr>
              <a:t>City of Belmont Recreation Servic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040" y="2057400"/>
            <a:ext cx="80010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3366"/>
                </a:solidFill>
                <a:latin typeface="Arial"/>
              </a:rPr>
              <a:t>Backgroun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3366"/>
                </a:solidFill>
                <a:latin typeface="Arial"/>
              </a:rPr>
              <a:t>Links to Recreation Services - Directions for the Future Framework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3366"/>
                </a:solidFill>
                <a:latin typeface="Arial"/>
              </a:rPr>
              <a:t>Funding sourced for 10,000 Steps Project from Physical Activity Task For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here to from here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7321680" y="4827600"/>
            <a:ext cx="1822320" cy="2030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539640" y="4653000"/>
            <a:ext cx="1447920" cy="220500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324000" y="2205000"/>
            <a:ext cx="84960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ncourage participants to KEEP EXCERSING!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edometers can be hired from the librar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ird series of 10,000 Steps Challenge to run in conjunction with new initiative - Belmont Forum Walking Group – Starting in May ’05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ity of Belmont </a:t>
            </a:r>
            <a:br>
              <a:rPr sz="3600"/>
            </a:b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ecreation Servic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040" y="2057400"/>
            <a:ext cx="7978680" cy="45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3366"/>
                </a:solidFill>
                <a:latin typeface="Arial"/>
              </a:rPr>
              <a:t>Andrew War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3366"/>
                </a:solidFill>
                <a:latin typeface="Arial"/>
              </a:rPr>
              <a:t>Coordinator - Recreation Servic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3366"/>
                </a:solidFill>
                <a:latin typeface="Arial"/>
              </a:rPr>
              <a:t>Ph: 9477 7208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3366"/>
                </a:solidFill>
                <a:latin typeface="Arial"/>
              </a:rPr>
              <a:t>Email: </a:t>
            </a:r>
            <a:r>
              <a:rPr b="0" lang="en-AU" sz="28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Andrew.Ward@belmont.wa.gov.au</a:t>
            </a:r>
            <a:r>
              <a:rPr b="0" lang="en-AU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3366"/>
                </a:solidFill>
                <a:latin typeface="Arial"/>
              </a:rPr>
              <a:t>Jodi Cronan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3366"/>
                </a:solidFill>
                <a:latin typeface="Arial"/>
              </a:rPr>
              <a:t>Recreation Project Offic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3366"/>
                </a:solidFill>
                <a:latin typeface="Arial"/>
              </a:rPr>
              <a:t>Ph: 9477 7212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3366"/>
                </a:solidFill>
                <a:latin typeface="Arial"/>
              </a:rPr>
              <a:t>Email: </a:t>
            </a:r>
            <a:r>
              <a:rPr b="0" lang="en-AU" sz="28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Jodi.Cronan@belmont.wa.gov.au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11280" y="189000"/>
            <a:ext cx="6300720" cy="14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6666"/>
                </a:solidFill>
                <a:latin typeface="Arial"/>
              </a:rPr>
              <a:t>The 10,000 Steps Project Objectiv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68360" y="2276640"/>
            <a:ext cx="82803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bjectiv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ncourage community participation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nsure the project is enjoyable and challenging for participant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ducate participants on the benefits of physical activit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nsure participants are aware of the physical activity levels needed to lead a healthy lifestyl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romote positive lifestyle changes to participant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hat does the 10,000 Steps Challenge consist of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476360" y="2057400"/>
            <a:ext cx="74390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12 week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ecord the number of steps you take each day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– using log book and walking pedometer provided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im to increase the number of steps you take each day over the 12 week perio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corporate 30 minutes of physical activity into your da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79280" y="3933720"/>
            <a:ext cx="1136880" cy="2362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10,000 Steps Challeng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6084720" y="2060640"/>
            <a:ext cx="2883240" cy="403848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914400" y="2057400"/>
            <a:ext cx="495288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Series 1 – March 2004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(80 participants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Series 2 – September 2004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(100 participants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How did the COB Implement </a:t>
            </a:r>
            <a:br>
              <a:rPr sz="3600"/>
            </a:b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he 10,000 Steps Challenge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0" y="2057040"/>
            <a:ext cx="9144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uccessful funding application - 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Physical Activity Taskforce, Local Activity Grants Program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artnerships – library, EMPHU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urchase Pedometers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rint resources - 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Log Book, Information Sheet, Questionnaires, Flyers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dvertise Challenge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eople to register for project, by completing registration sheet, medical questionnaire and Pre-Challenge questionnair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Staff involvement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Local businesses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Local residents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articipants required to attend information session at beginning of challeng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8001000" y="5084640"/>
            <a:ext cx="1143000" cy="144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6666"/>
                </a:solidFill>
                <a:latin typeface="Arial"/>
              </a:rPr>
              <a:t>Data collec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4040" y="2057400"/>
            <a:ext cx="8001000" cy="45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re / Post Questionnaire’s, Logbooks - EMPHU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etermine the effectiveness of the 10 000 Steps Project vi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hysical Activity Level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romoting Lifestyle Change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i.e. Goal setting for physical activit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i.e. Walking for Short Trip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etermine the awareness of the benefits of physical activit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valuate Promotional Strategies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Model of Behavioral Change</a:t>
            </a:r>
            <a:r>
              <a:rPr b="1" lang="en-US" sz="36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_x000b_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4000" y="5373360"/>
            <a:ext cx="80010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Richard W. Scholl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, Professor of Management, University of Rhode Islan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0" y="2349360"/>
            <a:ext cx="9144000" cy="230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94920" y="2491920"/>
            <a:ext cx="8209080" cy="2737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7000" spc="-1" strike="noStrike">
                <a:solidFill>
                  <a:srgbClr val="006666"/>
                </a:solidFill>
                <a:latin typeface="Arial"/>
              </a:rPr>
              <a:t>Did the 10,000 Steps Challenge Meet Objectives?</a:t>
            </a:r>
            <a:endParaRPr b="1" lang="en-US" sz="70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4T05:27:36Z</dcterms:created>
  <dc:creator>City of Belmont</dc:creator>
  <dc:description/>
  <dc:language>en-US</dc:language>
  <cp:lastModifiedBy>DPC</cp:lastModifiedBy>
  <dcterms:modified xsi:type="dcterms:W3CDTF">2005-04-11T06:38:15Z</dcterms:modified>
  <cp:revision>198</cp:revision>
  <dc:subject/>
  <dc:title>10000 Steps Project</dc:title>
</cp:coreProperties>
</file>